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E8E-F560-46A9-84C0-6617E9D7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300-79D7-42D3-9432-61E39FB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A98-E82B-4F87-881E-2FA9A956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28E-6899-4A3B-9DFD-7717072C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A344-1169-4A08-9AE1-964F7EBF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4C8-01A4-49D5-833E-2F7ED90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79A-DA99-42A3-BBAD-89F5CD0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CA68-2DC6-43DF-84AB-E5FB74EB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97B-2611-45F4-9FFA-EDE0D8D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5706-C606-4FA1-9BE3-60991B52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8501-B8EC-415F-BEDF-BA199E1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E9D-7AC3-4DEA-BCB3-E0E95DD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5A1-9E44-46E3-8820-FB06B07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84D5-00C2-4991-B3C0-4A41D32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F828-81F4-4AB5-9621-096F5D68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A0B3-816B-43E4-BD31-52523345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9AE1-CE0F-4968-B305-773FDA3B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F97-AF7F-4E95-BEE4-4B00CD0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FBB-5075-4CFD-A399-E56B9FE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1F7-88DA-4D13-8227-325ECBA0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AD4-69B8-4808-82FC-42B7338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0DB-692C-4D86-8FE4-22D64CD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CB5-77A0-4C4F-A1F7-3F7EC8F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B75-1FC9-4B88-9831-EF49305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1854-8347-4316-9067-A96D6021457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72A-1A1E-4A06-B0E5-6EC6ADBA6F8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WÓD PROSTO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KWADRA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240" y="1120320"/>
            <a:ext cx="82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cz obwód prostokąta o długośc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 sumę długości jego bo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81280" y="1494000"/>
          <a:ext cx="40957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494000"/>
                    <a:ext cx="40957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213560" y="405216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B| + |BC| + |CD| + |AD| = 6 cm + 4 cm + 6 cm + 4 cm = 2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450792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. Suma długości boków prostokąta  jest równa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0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040" y="526104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nios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a długości boków prostokąta jest jeg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w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2640" y="37742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bwód = a + b + a + b = a + a + b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2680" y="4231440"/>
            <a:ext cx="79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my już, że obwód prostokąta jest równy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2 • długość + 2 • szero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2000" y="1403280"/>
          <a:ext cx="40608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1403280"/>
                    <a:ext cx="40608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692360" y="48668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wód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wód przyjęto oznaczać przez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ąd m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10592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24200" y="1665360"/>
          <a:ext cx="26478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1665360"/>
                    <a:ext cx="2647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KWADRA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72480" y="4066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 = a + a + a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640" y="490608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awanie jednakowych składników możemy zastąpić mnoż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6640" y="554256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4 ·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57720" y="1569960"/>
          <a:ext cx="230796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569960"/>
                    <a:ext cx="230796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11059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kwadra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637000" y="1719360"/>
          <a:ext cx="147312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1719360"/>
                    <a:ext cx="147312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22Z</dcterms:modified>
  <cp:revision>48</cp:revision>
  <dc:subject/>
  <dc:title>Slajd 1</dc:title>
</cp:coreProperties>
</file>